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3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552D0-4374-41F9-AA7D-05923E9F4A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D8AE2-37CC-4053-AF44-AF430154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8BA883-59A5-4FF5-B519-63434016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6CE686-D86D-42A0-8308-704C9F3E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A1D955-F5A9-4819-BFBD-B23344AF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A12F51-F305-4094-8209-57D3DB83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59AE9B-D543-4406-8C1F-97BB492F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45A351-EB60-4C59-8C9B-AB2C4490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CE03ED-7FC2-4C6E-B69C-3551526F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36E79E-8670-4226-9A68-7AA194E7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D9A265-B3E6-4426-91F4-C74E6DD0F4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55242-3C86-44CC-B36F-C384E8D665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CF0E9-862C-4EA9-A9B6-320423E7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D9E0E-A300-4D89-BF2F-8F5F30B2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236F3-4D1F-414A-9C68-2F259E18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ED6C0-E9C6-4381-9E8E-A08260FA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3C524-85C3-4483-9A77-237C9102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73CB8-D6BF-4286-86D9-A5573B1C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EF439-3EAA-4045-8DA5-335DA543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228E7-A74C-4DD8-91B4-8D45AEC5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7AC8A-4725-412A-9388-192ABA7C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2D7FE-1E7F-4F16-96AA-E14BCCD7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26261-4761-4805-ACFA-9C616815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E6617-9688-451C-A591-7023C24A2B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1055F-2851-4DF3-8449-2C2737E707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478A7D-D4FF-4BF2-85D1-2CE19168FD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5FC8CA-54B2-4CBF-A305-C129B5AD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D01B4D-5CE6-4FE6-9FF3-3A53B6C4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59B9AC-4E34-4E77-B27C-CB3F2BC6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900D85-9026-45D8-BCF2-2724D7AD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731DC1-2347-44E7-B18A-475E0B83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647224-5CFF-4492-9E50-B24AA3E1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8E45B0-761E-4858-9C50-3D9FE963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9BB05C-2BF3-4F3F-B503-FE798FDC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1713D-A61C-4158-9578-FBE88E6B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711B4B-BFFC-4E5A-B2EE-B733E6E7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4F7187-22AB-4BD7-BC5E-7073C78E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11AA90-BFC9-4413-9B49-BDFE35BC66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CB9A4-079D-4AA7-B127-EB0AB48A8A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E6C963-1EDC-4612-AB0B-4D2B0F1A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BA4B1A-0D85-49C0-9630-7869AB99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6EF39-E588-412C-9DB0-01F97D55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CDFDCD-4832-4CCA-94D9-A29184F9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CF59F0-E6A9-4441-A7F9-6DFBDE83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A54782-8CFD-4A61-B18F-7AB803B4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FF6F8-ABE0-4EFC-AB5F-A5113C80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54992A-A448-44B2-A147-2DA2CEA6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B94477-4B53-4DFB-A30E-6540726F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398CA4-5884-42F0-82C6-B900FF18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8D338-C54B-42DF-A610-B58F1EFD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9211D-A890-4C42-8C41-F0446AE23D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28D89-1C2E-4EEF-8FFA-141428A658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A2B9C-F5C6-42B3-AD34-7B3B2A46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E29D1-35D0-46E6-8A32-CEAFF22F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9C6E5-6BCF-4FFE-B481-AE2A181F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897AB-ED2F-4B07-B7D4-4BA99F98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0E0B6-6CF6-444B-A42E-ED2EFB50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95B29-4F6F-4E53-B847-C7BA0133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DF01E-375E-45DF-A4FB-64938D91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9231E-1C17-4E71-80B7-FA904809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E4025-EDDC-45F9-8989-3C5CCCBC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D676C-07EC-4204-8FC7-A91A5856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1613E-0734-4825-A747-3FC6BD56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27010-D38F-4355-BA00-99305103BC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9EFD7-8867-44C0-A145-CE9E0F75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B4016-06DC-4626-AA31-D84DB1B2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BA4E4-1C7D-4A6C-B5EB-990030A8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9051F-698A-4EF0-ABD7-3A200CE3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C6334-A5CC-4CAF-B5D1-5D9CEE3D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ECB54-D7FC-46E8-8D90-B2D2A33D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D2F99-5990-4C5B-96D0-6AD8DEAB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F1896-8BEA-498A-A014-B8AE9779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A7CB0-068E-4EA8-BF79-2F6FF517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02F5A-56CD-4CAA-98F5-804C013E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DD4A7-FF70-4B60-AE98-3BA1D675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E3E25-861E-4FC9-81A6-70834ED5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C8E91-86D0-4062-B99E-69CE301E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89BB0-AD0C-4B94-82D4-614CD6B4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F8E8D-F218-4ECE-A9C1-9C2CFA6A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BA4CE-B36A-483A-8687-C28F5D00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53826-9167-40AF-A34C-9F3F91C7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F76EA-BBB5-4BF8-B54E-781DEDC0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9C223-26B2-4332-8955-0F470B63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4AF7E-5BC8-41FB-94F8-B7E3CFFA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0B3AA-1215-4CE3-9A88-E7007407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27CA3-98EC-4E0E-8DFA-3DD54DD1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748A2-F058-41F5-BC6E-CAB8A463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59C31-807B-47FE-9CB6-2932B5DB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F052D-388E-4CE4-8B81-E36272AF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34330-27E9-4E31-92C3-3FD308C0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A4A10-D17E-4533-B95F-7D10867E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9EFA0-FCF3-4014-8D57-36ED22E6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52930-AA8E-4121-A036-52DA2D39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81044-FCF7-4B0E-8801-69DABF4A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4B51E-15A2-49A9-8FD0-F0035571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49907-4363-41AE-982E-CB318322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5397B-D392-48E4-9C3C-F1833BE0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C8CDA-C934-4A1B-BFF9-6022549B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73776-1C9E-40B3-BD73-E879314A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F09B1-C61F-480D-8769-CE9C4C58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3CD15-AC01-4E93-BA37-CDEEEDE6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228C0-F492-4A9F-884C-03B7E064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5BD41-8A4B-4A81-A986-B7EA4293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FCA57-796C-4A1F-9F67-58CB353F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CD3CE3-AEED-4BA1-8093-2CDAB038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E4EAE4-D1C0-4C0A-98EB-2E490867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78722-9A3E-4BB0-9AAF-8EAA2496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05DADE-17E4-4F10-A43B-C52A1631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EFC0CF-DD0F-4C3F-A47B-4F0F458E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E411E-8E10-446D-BA06-51AD1B1F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704845-BDDC-4902-A452-D34B74E4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E46DC-F6B9-426F-924B-D6EAB14D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B16D7-FB0D-4C7D-80E7-BC1F8E32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16164F-BE7A-4753-BF4E-492CC7EF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AD9C89-0E7F-48F8-8CC5-FF937941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A8495D-5988-4F51-87B8-1BDFD16E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EF359-AA97-46CA-8FF3-59DEA59A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1C4F2E-4C4E-4EBB-9727-361C5654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CBC769-8016-485C-9936-F3DE32D9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CA9FC9-D95A-4690-B35C-047E6AEA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D56C81-9C5E-4B45-9E05-0B914CED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F76221-FED0-4B40-B63A-50BFAB88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E8ED87-DA96-4662-BB30-CF01B9FF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01447-F8F0-41AB-A4FB-F800F256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AF59A4-F223-4AEB-A736-F03B1567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4FD11E-8252-4C5A-A4B9-39D42647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156A1A-28DE-487F-B3CC-BA10A831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E527AF-5159-49AB-9C8B-E043F981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613D9F-D5F1-4C29-B616-CA9CFB21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2FC629-F101-4A34-BAB6-1729A037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376813-140E-4ED5-B0C2-47A9AF63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0DD9EB-C2BD-4AE6-99E0-C76DE04C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AC834F-165D-4DF3-8549-1B9060BD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06DF2C-AC71-406A-AF03-F2F848DF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E3F7B-A4BF-414E-9EC0-2472B39C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FA41D4-FC92-430D-B0F3-C7ABC2ED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B53D8B-84B3-4B80-B813-E8A4FEBB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D3514F-300B-4CED-AA63-B3FC42FE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FF1C4F-C7C1-4FCF-AF5F-9ED87F01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9C659D-E7DB-405D-9742-74FD2D46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8FBB58-311F-430A-8FAA-86B055B8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B09DD7-12DA-4EF5-ABC9-B86175AA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DB94F2-440C-4CE6-8B2E-00330FF3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C2C36A-8863-4273-97AB-464C4E17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418AB4-3C1B-489D-BAD3-30AC6351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85230-7EBB-4514-ACD3-273342E7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472FFE-48E4-4707-BA8C-12755EF0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98E5FC-76B0-4EE6-9990-4BF11D2E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AF7A29-D535-403D-8A32-3B59176F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1C1F9B-5687-4938-A28A-610CE368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FBAEDF-EADF-4C19-8595-3BC00E9C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615CF1-BF54-4A1F-A9D8-9A0A1A3A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1C3EDD-E6C3-4BEA-8110-EC42FEFF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3ABE22-1724-488A-8AC6-BC2BBE24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61B7AD-D25F-4CF1-812F-F917A707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C7F6D2-F289-44C5-9F07-5A75B643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9138C-D140-43B4-A7FA-7CEB56AE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221FFF-56F2-4934-9FDE-305AF7B6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4ACB72-8919-4BF2-BDA5-ED327A74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DB50DF-F465-488D-BFAF-457A170D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12EC34-2140-4A62-997D-934CFD58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865674-5363-4656-ADF0-A63D204E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21EB86-55E7-416C-B659-7EEF526B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0731BF-741C-4074-85FD-81C26E9A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E7366D-961F-4BE3-9C61-985BEF25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99962E-2CAC-41A6-9642-AE06AE40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6269B1-8C8B-45E0-8B35-FF98FC26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F7606A-8FBF-4CD4-B66E-3EDD048CCC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C0B43F-B5CC-4D0C-A0BB-EE872511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788836-A786-4BE9-AFF5-F0AEA937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385673-9376-4E57-9BD1-C0FEB1A1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79B7A8-A6B5-4D2C-B251-D27DC577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ECFAFA-484B-446D-843A-2356C705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061718-F621-49E8-97EE-CB948FAC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000979-52DB-4BC6-8613-EC526A7F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AE396E-050E-47EF-B596-BDCDFB87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2BB9A7-5F87-44F0-845F-48846CBC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63C5E3-8338-40FA-9116-DC2D2496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A55767-48EA-4A6C-A788-4DE1DF6F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2C75A4-F824-4AED-9E2B-5C9AFDB2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57A6C3-BC77-447F-BE8C-26BC2AB7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80EAB5-8DFE-4776-ACA2-03A90170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9D5D6E-F001-46A8-B15D-0D760685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2B8FF7-D156-4B54-813D-09A2B4C7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FB807B-8811-474B-9071-8A0E25A1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6B36F3-76D5-4062-B606-A5D3F58D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C90396-D014-4ABA-8FEA-C82F2B8B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988215-11C2-4F95-8227-51163225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A4C987-5093-456E-A709-EA7D237C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3D7C7E-E6CD-4DF0-AB34-42FC8699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FF8AA9-3168-4F91-877B-AEAF972E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1F5363-E061-4C1B-A44E-EF094F75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54E74A-397B-4F02-908A-7DD647BB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0DF2FD-8081-4028-AF00-478E4D01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3B7433-FC31-48CC-B762-53760673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6B50A7-7472-49D0-9091-2585182E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157420-2226-4F23-800A-9FF36B1E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877603-33F4-4C19-A890-31991C78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D8C9FE-DECC-458F-890A-17BEF6DA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0205C4-7288-4A2E-8088-8580CFA0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1F0EB9-4B91-4AD1-9C60-D6C02D05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B9D675-F38E-4007-A446-D1A773D9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DD0B2D-D198-4879-99AB-5D9DBE44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4CD12B-451F-4E3D-A82C-67ED1CC0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127D4B-005B-47BF-9CC0-EECA4C61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633592-7344-4499-86D7-8AA05D91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7CE1FD-3796-41F0-A0F3-2B273AB0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44365F-D47A-4FF1-B6CD-01B52131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04E5DE-4EBA-411D-B7FC-21F756EC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E1EF7F-5EF2-4EF1-AB0E-EB8E4252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24F1AF-7E71-46A6-8C13-083F487D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05607-FD44-4063-8B64-E01869A8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26D797-8A6D-4C7A-86A8-A81DFA07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314764-636E-4E42-9107-BCC97FB6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2B01F9-3526-4E92-8ABF-83B58CAF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AA37F2-AD0C-46B4-9658-EF7984A2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33657F-0454-4C17-8F04-BC17659B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82A3A9-F799-42DC-8CE5-219C980A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D24E90-C46F-4AC2-AD0A-C89D7718DC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95B96-865C-47D4-A25B-E628AF5AC5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4E1E4-F9B8-4B8C-9D3E-E33BAB5B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8E13A-B797-4238-9308-C2B9EBE9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8F7BA-E724-4AC8-88AF-F75DA3AF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0AD28-72BF-4469-A0CB-4727C0BF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E3156-5041-4E17-9A46-494F2215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124AB-48AE-431C-8A43-5D10486F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B7D8E-793E-474C-8366-2CEDEBE7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E01B4-3978-4FF1-B920-E0743B6E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47163-E7DD-4CF8-92A6-7A6FBAAE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D72F7-CC6F-4084-B780-B0E9FE5F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7D928-1307-4609-90C8-934B1754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09207-4B19-443D-98CF-E6E77AC6C8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808869-6A46-4654-BC40-3B70A77895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56DC2-3228-4874-B8DF-1C30C65D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D738CC-9394-4455-BFF2-5E535540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6A3E76-582E-4701-A8F6-14B16960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0CFDAC-AD4B-4684-89BA-68B9F1F0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F7A391-F1DF-4254-8305-87748B97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86114D-1AAA-4F5D-8AC8-96F985D6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93B00D-A86B-4893-BA8B-7EC30E43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443893-A8E8-4FDE-9165-BCF05E02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46F226-89E4-4997-B464-ECD8F760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62729A-9633-4A97-83C3-7FAB5AEA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9DC4A1-9CF0-4BD3-9F05-C9F6BA1F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D438B-B357-4EB7-BD9B-00E44E54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47EC3E-A676-4998-B210-212290EBEC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D96B72-7D74-4E97-98F3-CFDF085109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1E8829-6453-47FD-9AFF-9AD6698E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F35FEC-31D8-46F5-8E8A-2479CC14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C4975A-E961-4554-BF56-2C2B56E6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B0B2A2-8913-4DC9-A2F0-31EF4033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D675A5-6BCC-4148-9D41-8A3ADCFE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BD8224-F1D3-4362-A7A3-418F2A9F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3BD012-62B6-48CB-9860-D2FE963C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46A181-7120-48CF-97C0-CAFFB3DE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75416-0812-480C-8736-5E0AFDAC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A36A70-2F58-4916-B84A-CBAC9B37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5D767B-6BEF-4CB8-BDED-603F17C0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BFBBF8-F9CD-404D-9E37-36FFB97670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2E22A-CB63-4545-9D3C-030D819F2C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DBAA6-AAE0-4373-BEC8-7B4F1D7C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78F5F-2840-4069-B19C-B75394D9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BA3C8-280C-4526-949B-6CDFEA33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C696C-F08B-4ED0-BC46-1093AB9F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E550A-2255-4AAA-98CA-73A90571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02FBA-961A-4D28-A394-2E15E766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5C05D-9E4C-4B61-BF31-AF798C6C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12D84-CC41-41D7-871F-CC491AFB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FCABD-4655-4AB7-84A7-85D29048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296BE-75BC-4D13-8A57-5FE6CE8C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AD040-2BF6-4729-97D9-CF997BD1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C9E19-DDDA-4193-9176-0AD5C09302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97C082-B7CF-4D3D-9C4E-B5F3E4E600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72B9B1-08DA-45FA-8CF2-B0D9FEAE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A378B4-BE2B-4A87-AA45-245BC573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5BB936-1260-44E9-BFCE-D4B5BBCF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72B8FC-1F2A-47B9-9A2E-E7854AD8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C5C8B-E00D-4775-8D31-59AFAD9E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45D73D-70BC-4626-9C71-9BBED213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B34D1F-3AB0-4E98-9D89-F99DA9AD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93B8AC-A855-4C62-82D6-829ED05E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446B1D-B778-41DC-8D9F-7DDF46BE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6EEC4E-4E78-4187-9336-97244636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9F8093-A9AB-4EE1-9234-6B103B63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FA9947-69BC-4464-8B7C-BF37D3593D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F85199-FFC8-4ED1-81B2-A8A95C3DB7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D01D4D-8D66-428C-A31A-60AFF552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940B5B-0A99-41BB-A590-392AE1B1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2A0E-8E47-4C82-9793-7496D393DA7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1870-7741-4B82-8D60-942EE853FBD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E929-606C-4646-AEAC-4B48D945033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475B-862C-4B0D-88CA-904A8A1CF51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A1EE-F4D0-4431-A85A-00033DF3E54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E700-9B97-43A5-8C7C-9F1194C63CD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BF49-85FF-4493-80C2-7A836F00645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F890-46A4-40F2-883C-3DFA2FB3296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B4AA-C291-4E4C-87A0-97FE0997F17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50C9-0AE9-4E1E-B94A-1EDF2C5AD79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091F-32AE-42AA-B471-3A1BD6B56DE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D6D2-C373-43D5-ADA7-02149A47D42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BB9F-BF6E-47F7-89D8-5BF7E2EE7E3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B95C-E9E3-4BF6-AD08-94DD27B000A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0721-B693-44CF-A05E-D652C4BC840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60EE-F715-4FB9-8453-A5260D2418F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D571-678E-4584-9F3B-37D6C642BEF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25E1-6AE2-4988-B7AF-D9B48846135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E19B-6622-4865-A8AE-6FC925CE91F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001F-3E47-4BFD-9818-E4E02F2C366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9BAF-EDBC-4D49-9D0E-618F1661EB0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C44F-A152-4268-BF9C-48331440A77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0F13-38CA-4814-97A2-9B2508D6C48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DB26-16B7-40EC-9E23-076ACEE87D3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771560" y="2703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线 段、直 线、射 线 和 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929120" cy="360"/>
            <a:chOff x="2284560" y="2448000"/>
            <a:chExt cx="492912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92912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929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171440" y="1744560"/>
            <a:ext cx="748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角的度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4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44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5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2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32"/>
          <p:cNvSpPr/>
          <p:nvPr/>
        </p:nvSpPr>
        <p:spPr>
          <a:xfrm>
            <a:off x="210960" y="879480"/>
            <a:ext cx="844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线段有两个端点，长度有限，不能延伸；射线有一个端点，可以向一段无限延伸；直线没有端点，可以向两端无限延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Box 32"/>
          <p:cNvSpPr/>
          <p:nvPr/>
        </p:nvSpPr>
        <p:spPr>
          <a:xfrm>
            <a:off x="193680" y="2441520"/>
            <a:ext cx="844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从一点引出两条射线所组成的图形叫做角。这一点是角的顶点，这两条射线是角的边。角有一个顶点和两条边，角的两边可以无限延伸。角通常用符号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∠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来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5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7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58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0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66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99"/>
          <p:cNvSpPr/>
          <p:nvPr/>
        </p:nvSpPr>
        <p:spPr>
          <a:xfrm>
            <a:off x="187200" y="703440"/>
            <a:ext cx="8445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选一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　　）可以量出长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　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直线　　       　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 射线　　     　　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 线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角的两条边是（　　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 直线　　      　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 射线　　　     　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 线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直线有（　　）个端点，射线有（　　）个端点，线段有（　　）个端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　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　　　 　 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　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　　　    　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经过平面上的任意两点，可以画（    ）条直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               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               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 无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文本框 12"/>
          <p:cNvSpPr/>
          <p:nvPr/>
        </p:nvSpPr>
        <p:spPr>
          <a:xfrm>
            <a:off x="1380960" y="1284120"/>
            <a:ext cx="5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1"/>
          <p:cNvSpPr/>
          <p:nvPr/>
        </p:nvSpPr>
        <p:spPr>
          <a:xfrm>
            <a:off x="2919240" y="2208240"/>
            <a:ext cx="5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文本框 2"/>
          <p:cNvSpPr/>
          <p:nvPr/>
        </p:nvSpPr>
        <p:spPr>
          <a:xfrm>
            <a:off x="2128680" y="3116160"/>
            <a:ext cx="5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文本框 3"/>
          <p:cNvSpPr/>
          <p:nvPr/>
        </p:nvSpPr>
        <p:spPr>
          <a:xfrm>
            <a:off x="4933800" y="3122640"/>
            <a:ext cx="5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文本框 4"/>
          <p:cNvSpPr/>
          <p:nvPr/>
        </p:nvSpPr>
        <p:spPr>
          <a:xfrm>
            <a:off x="7723080" y="3121200"/>
            <a:ext cx="5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文本框 6"/>
          <p:cNvSpPr/>
          <p:nvPr/>
        </p:nvSpPr>
        <p:spPr>
          <a:xfrm>
            <a:off x="4954680" y="448308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5410080" cy="525600"/>
            <a:chOff x="0" y="101520"/>
            <a:chExt cx="54100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270360" y="101520"/>
              <a:ext cx="51397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723960" cy="273960"/>
              <a:chOff x="0" y="196560"/>
              <a:chExt cx="723960" cy="27396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83680" y="348480"/>
                <a:ext cx="106560" cy="13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481320" y="278640"/>
                <a:ext cx="242640" cy="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83680" y="212040"/>
                <a:ext cx="106560" cy="13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481320" y="205920"/>
                <a:ext cx="242640" cy="7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89080"/>
                <a:ext cx="6458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70720"/>
                <a:ext cx="6458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4560"/>
                <a:ext cx="6458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645840" cy="64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9" name="Picture 2" descr="D:\我的文档-桌面-收藏夹\桌面\手.jpg"/>
          <p:cNvPicPr/>
          <p:nvPr/>
        </p:nvPicPr>
        <p:blipFill>
          <a:blip r:embed="rId8"/>
          <a:stretch/>
        </p:blipFill>
        <p:spPr>
          <a:xfrm>
            <a:off x="339840" y="1000080"/>
            <a:ext cx="2035080" cy="14414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2" descr="D:\我的文档-桌面-收藏夹\桌面\手.jpg"/>
          <p:cNvPicPr/>
          <p:nvPr/>
        </p:nvPicPr>
        <p:blipFill>
          <a:blip r:embed="rId9"/>
          <a:stretch/>
        </p:blipFill>
        <p:spPr>
          <a:xfrm>
            <a:off x="3125880" y="1063800"/>
            <a:ext cx="2022480" cy="1433160"/>
          </a:xfrm>
          <a:prstGeom prst="rect">
            <a:avLst/>
          </a:prstGeom>
          <a:ln w="0">
            <a:noFill/>
          </a:ln>
        </p:spPr>
      </p:pic>
      <p:grpSp>
        <p:nvGrpSpPr>
          <p:cNvPr id="1011" name=""/>
          <p:cNvGrpSpPr/>
          <p:nvPr/>
        </p:nvGrpSpPr>
        <p:grpSpPr>
          <a:xfrm>
            <a:off x="1625760" y="1639800"/>
            <a:ext cx="2286000" cy="360"/>
            <a:chOff x="1625760" y="1639800"/>
            <a:chExt cx="2286000" cy="360"/>
          </a:xfrm>
        </p:grpSpPr>
        <p:sp>
          <p:nvSpPr>
            <p:cNvPr id="1012" name="直接连接符 9"/>
            <p:cNvSpPr/>
            <p:nvPr/>
          </p:nvSpPr>
          <p:spPr>
            <a:xfrm>
              <a:off x="1625760" y="1639800"/>
              <a:ext cx="2286000" cy="0"/>
            </a:xfrm>
            <a:prstGeom prst="line">
              <a:avLst/>
            </a:prstGeom>
            <a:ln w="255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 txBox="1"/>
            <p:nvPr/>
          </p:nvSpPr>
          <p:spPr>
            <a:xfrm>
              <a:off x="1625760" y="163980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Rectangle 21"/>
          <p:cNvSpPr/>
          <p:nvPr/>
        </p:nvSpPr>
        <p:spPr>
          <a:xfrm>
            <a:off x="1674720" y="117360"/>
            <a:ext cx="26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创设情境，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3"/>
          <p:cNvSpPr/>
          <p:nvPr/>
        </p:nvSpPr>
        <p:spPr>
          <a:xfrm>
            <a:off x="179280" y="5437080"/>
            <a:ext cx="9144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为了表述方便，可以用字母来表示线段，如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线段</a:t>
            </a:r>
            <a:r>
              <a:rPr b="1" lang="en-US" sz="2800" spc="-1" strike="noStrike">
                <a:solidFill>
                  <a:srgbClr val="000000"/>
                </a:solidFill>
                <a:latin typeface="EU-B1X"/>
                <a:ea typeface="EU-B1X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Picture 14" descr="19"/>
          <p:cNvPicPr/>
          <p:nvPr/>
        </p:nvPicPr>
        <p:blipFill>
          <a:blip r:embed="rId10"/>
          <a:stretch/>
        </p:blipFill>
        <p:spPr>
          <a:xfrm>
            <a:off x="6197760" y="500040"/>
            <a:ext cx="1879560" cy="2163960"/>
          </a:xfrm>
          <a:prstGeom prst="rect">
            <a:avLst/>
          </a:prstGeom>
          <a:ln w="0">
            <a:noFill/>
          </a:ln>
        </p:spPr>
      </p:pic>
      <p:sp>
        <p:nvSpPr>
          <p:cNvPr id="1017" name="矩形 18"/>
          <p:cNvSpPr/>
          <p:nvPr/>
        </p:nvSpPr>
        <p:spPr>
          <a:xfrm>
            <a:off x="0" y="2643120"/>
            <a:ext cx="8715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根拉紧的线、绷紧的弦，都可以看作是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线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8" name="Picture 11" descr="E:\2017秋上·黄倩\其他\人\海豚.jpg海豚"/>
          <p:cNvPicPr/>
          <p:nvPr/>
        </p:nvPicPr>
        <p:blipFill>
          <a:blip r:embed="rId11"/>
          <a:stretch/>
        </p:blipFill>
        <p:spPr>
          <a:xfrm>
            <a:off x="474840" y="4016520"/>
            <a:ext cx="901440" cy="1095120"/>
          </a:xfrm>
          <a:prstGeom prst="rect">
            <a:avLst/>
          </a:prstGeom>
          <a:ln w="0">
            <a:noFill/>
          </a:ln>
        </p:spPr>
      </p:pic>
      <p:sp>
        <p:nvSpPr>
          <p:cNvPr id="1019" name="AutoShape 17"/>
          <p:cNvSpPr/>
          <p:nvPr/>
        </p:nvSpPr>
        <p:spPr>
          <a:xfrm>
            <a:off x="285840" y="3143160"/>
            <a:ext cx="3286080" cy="609840"/>
          </a:xfrm>
          <a:prstGeom prst="wedgeRoundRectCallout">
            <a:avLst>
              <a:gd name="adj1" fmla="val -31703"/>
              <a:gd name="adj2" fmla="val 8543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3"/>
          <p:cNvSpPr/>
          <p:nvPr/>
        </p:nvSpPr>
        <p:spPr>
          <a:xfrm>
            <a:off x="1786320" y="3206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Calibri"/>
                <a:ea typeface="宋体"/>
              </a:rPr>
              <a:t>线段有两个端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Oval 3"/>
          <p:cNvSpPr/>
          <p:nvPr/>
        </p:nvSpPr>
        <p:spPr>
          <a:xfrm>
            <a:off x="2684520" y="4784760"/>
            <a:ext cx="73080" cy="73080"/>
          </a:xfrm>
          <a:prstGeom prst="ellips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Oval 4"/>
          <p:cNvSpPr/>
          <p:nvPr/>
        </p:nvSpPr>
        <p:spPr>
          <a:xfrm>
            <a:off x="5770440" y="4784760"/>
            <a:ext cx="73080" cy="73080"/>
          </a:xfrm>
          <a:prstGeom prst="ellips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2746080" y="4812840"/>
            <a:ext cx="3097440" cy="360"/>
            <a:chOff x="2746080" y="4812840"/>
            <a:chExt cx="3097440" cy="360"/>
          </a:xfrm>
        </p:grpSpPr>
        <p:sp>
          <p:nvSpPr>
            <p:cNvPr id="1024" name="Line 5"/>
            <p:cNvSpPr/>
            <p:nvPr/>
          </p:nvSpPr>
          <p:spPr>
            <a:xfrm>
              <a:off x="2746440" y="4813200"/>
              <a:ext cx="30970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 txBox="1"/>
            <p:nvPr/>
          </p:nvSpPr>
          <p:spPr>
            <a:xfrm rot="10800000">
              <a:off x="2746080" y="4812840"/>
              <a:ext cx="309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Text Box 6"/>
          <p:cNvSpPr/>
          <p:nvPr/>
        </p:nvSpPr>
        <p:spPr>
          <a:xfrm>
            <a:off x="2397240" y="42814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7"/>
          <p:cNvSpPr/>
          <p:nvPr/>
        </p:nvSpPr>
        <p:spPr>
          <a:xfrm>
            <a:off x="5692680" y="42800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0"/>
          <p:cNvSpPr/>
          <p:nvPr/>
        </p:nvSpPr>
        <p:spPr>
          <a:xfrm>
            <a:off x="3259080" y="41353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线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TextBox 3"/>
          <p:cNvSpPr/>
          <p:nvPr/>
        </p:nvSpPr>
        <p:spPr>
          <a:xfrm>
            <a:off x="611280" y="787320"/>
            <a:ext cx="7961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把线段向两端无限延伸，就得到一条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直线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3"/>
          <p:cNvSpPr/>
          <p:nvPr/>
        </p:nvSpPr>
        <p:spPr>
          <a:xfrm>
            <a:off x="611280" y="4849920"/>
            <a:ext cx="828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直线除了可以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直线</a:t>
            </a:r>
            <a:r>
              <a:rPr b="1" lang="en-US" sz="3200" spc="-1" strike="noStrike">
                <a:solidFill>
                  <a:srgbClr val="000000"/>
                </a:solidFill>
                <a:latin typeface="EU-B1X"/>
                <a:ea typeface="EU-B1X"/>
              </a:rPr>
              <a:t>AB</a:t>
            </a:r>
            <a:r>
              <a:rPr b="1" lang="en-US" sz="3200" spc="-1" strike="noStrike">
                <a:solidFill>
                  <a:srgbClr val="6767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EU-B1X"/>
                <a:ea typeface="EU-B1X"/>
              </a:rPr>
              <a:t>表示，还可以用小写字母表示，如</a:t>
            </a:r>
            <a:r>
              <a:rPr b="0" i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1" lang="zh-CN" sz="32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11" descr="E:\2017秋上·黄倩\其他\人\海豚.jpg海豚"/>
          <p:cNvPicPr/>
          <p:nvPr/>
        </p:nvPicPr>
        <p:blipFill>
          <a:blip r:embed="rId1"/>
          <a:stretch/>
        </p:blipFill>
        <p:spPr>
          <a:xfrm>
            <a:off x="617400" y="3144960"/>
            <a:ext cx="901800" cy="1095120"/>
          </a:xfrm>
          <a:prstGeom prst="rect">
            <a:avLst/>
          </a:prstGeom>
          <a:ln w="0">
            <a:noFill/>
          </a:ln>
        </p:spPr>
      </p:pic>
      <p:sp>
        <p:nvSpPr>
          <p:cNvPr id="1032" name="AutoShape 17"/>
          <p:cNvSpPr/>
          <p:nvPr/>
        </p:nvSpPr>
        <p:spPr>
          <a:xfrm>
            <a:off x="500040" y="1787400"/>
            <a:ext cx="4000680" cy="1071720"/>
          </a:xfrm>
          <a:prstGeom prst="wedgeRoundRectCallout">
            <a:avLst>
              <a:gd name="adj1" fmla="val -34842"/>
              <a:gd name="adj2" fmla="val 668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13"/>
          <p:cNvSpPr/>
          <p:nvPr/>
        </p:nvSpPr>
        <p:spPr>
          <a:xfrm>
            <a:off x="714240" y="1859040"/>
            <a:ext cx="364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Calibri"/>
                <a:ea typeface="宋体"/>
              </a:rPr>
              <a:t>直线没有端点，是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Calibri"/>
                <a:ea typeface="宋体"/>
              </a:rPr>
              <a:t>限长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Oval 3"/>
          <p:cNvSpPr/>
          <p:nvPr/>
        </p:nvSpPr>
        <p:spPr>
          <a:xfrm>
            <a:off x="2890800" y="4429080"/>
            <a:ext cx="73080" cy="73080"/>
          </a:xfrm>
          <a:prstGeom prst="ellips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Oval 4"/>
          <p:cNvSpPr/>
          <p:nvPr/>
        </p:nvSpPr>
        <p:spPr>
          <a:xfrm>
            <a:off x="5915160" y="4429080"/>
            <a:ext cx="72720" cy="73080"/>
          </a:xfrm>
          <a:prstGeom prst="ellips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2890440" y="4460400"/>
            <a:ext cx="3097440" cy="360"/>
            <a:chOff x="2890440" y="4460400"/>
            <a:chExt cx="3097440" cy="360"/>
          </a:xfrm>
        </p:grpSpPr>
        <p:sp>
          <p:nvSpPr>
            <p:cNvPr id="1037" name="Line 5"/>
            <p:cNvSpPr/>
            <p:nvPr/>
          </p:nvSpPr>
          <p:spPr>
            <a:xfrm>
              <a:off x="2890800" y="4460760"/>
              <a:ext cx="30970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 txBox="1"/>
            <p:nvPr/>
          </p:nvSpPr>
          <p:spPr>
            <a:xfrm rot="10800000">
              <a:off x="2890440" y="4460400"/>
              <a:ext cx="309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Text Box 6"/>
          <p:cNvSpPr/>
          <p:nvPr/>
        </p:nvSpPr>
        <p:spPr>
          <a:xfrm>
            <a:off x="2603520" y="39258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7"/>
          <p:cNvSpPr/>
          <p:nvPr/>
        </p:nvSpPr>
        <p:spPr>
          <a:xfrm>
            <a:off x="5987880" y="39258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5915160" y="4460760"/>
            <a:ext cx="1871640" cy="360"/>
            <a:chOff x="5915160" y="4460760"/>
            <a:chExt cx="1871640" cy="360"/>
          </a:xfrm>
        </p:grpSpPr>
        <p:sp>
          <p:nvSpPr>
            <p:cNvPr id="1042" name="Line 8"/>
            <p:cNvSpPr/>
            <p:nvPr/>
          </p:nvSpPr>
          <p:spPr>
            <a:xfrm>
              <a:off x="5915160" y="4460760"/>
              <a:ext cx="18716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 txBox="1"/>
            <p:nvPr/>
          </p:nvSpPr>
          <p:spPr>
            <a:xfrm>
              <a:off x="5915160" y="4460760"/>
              <a:ext cx="18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1595160" y="4460760"/>
            <a:ext cx="1368720" cy="360"/>
            <a:chOff x="1595160" y="4460760"/>
            <a:chExt cx="1368720" cy="360"/>
          </a:xfrm>
        </p:grpSpPr>
        <p:sp>
          <p:nvSpPr>
            <p:cNvPr id="1045" name="Line 9"/>
            <p:cNvSpPr/>
            <p:nvPr/>
          </p:nvSpPr>
          <p:spPr>
            <a:xfrm flipH="1">
              <a:off x="1595160" y="4460760"/>
              <a:ext cx="136836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 txBox="1"/>
            <p:nvPr/>
          </p:nvSpPr>
          <p:spPr>
            <a:xfrm>
              <a:off x="1595520" y="4460760"/>
              <a:ext cx="13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Rectangle 11"/>
          <p:cNvSpPr/>
          <p:nvPr/>
        </p:nvSpPr>
        <p:spPr>
          <a:xfrm>
            <a:off x="3665520" y="3911760"/>
            <a:ext cx="12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直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946080" y="2701800"/>
            <a:ext cx="360" cy="360"/>
            <a:chOff x="946080" y="2701800"/>
            <a:chExt cx="360" cy="360"/>
          </a:xfrm>
        </p:grpSpPr>
        <p:sp>
          <p:nvSpPr>
            <p:cNvPr id="1049" name="Line 13"/>
            <p:cNvSpPr/>
            <p:nvPr/>
          </p:nvSpPr>
          <p:spPr>
            <a:xfrm>
              <a:off x="946080" y="27018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 txBox="1"/>
            <p:nvPr/>
          </p:nvSpPr>
          <p:spPr>
            <a:xfrm>
              <a:off x="946080" y="2701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1" name="Text Box 10"/>
          <p:cNvSpPr/>
          <p:nvPr/>
        </p:nvSpPr>
        <p:spPr>
          <a:xfrm>
            <a:off x="5214960" y="3711600"/>
            <a:ext cx="29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TextBox 3"/>
          <p:cNvSpPr/>
          <p:nvPr/>
        </p:nvSpPr>
        <p:spPr>
          <a:xfrm>
            <a:off x="425520" y="857160"/>
            <a:ext cx="79628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把线段向一端无限延伸，就得到一条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射线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3"/>
          <p:cNvSpPr/>
          <p:nvPr/>
        </p:nvSpPr>
        <p:spPr>
          <a:xfrm>
            <a:off x="500040" y="4572000"/>
            <a:ext cx="91440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射线可以用端点和射线上的另一点来表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如射线</a:t>
            </a:r>
            <a:r>
              <a:rPr b="1" lang="en-US" sz="3200" spc="-1" strike="noStrike">
                <a:solidFill>
                  <a:srgbClr val="000000"/>
                </a:solidFill>
                <a:latin typeface="EU-B1X"/>
                <a:ea typeface="EU-B1X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Picture 11" descr="E:\2017秋上·黄倩\其他\人\海豚.jpg海豚"/>
          <p:cNvPicPr/>
          <p:nvPr/>
        </p:nvPicPr>
        <p:blipFill>
          <a:blip r:embed="rId1"/>
          <a:stretch/>
        </p:blipFill>
        <p:spPr>
          <a:xfrm>
            <a:off x="617400" y="2928960"/>
            <a:ext cx="901800" cy="1095480"/>
          </a:xfrm>
          <a:prstGeom prst="rect">
            <a:avLst/>
          </a:prstGeom>
          <a:ln w="0">
            <a:noFill/>
          </a:ln>
        </p:spPr>
      </p:pic>
      <p:sp>
        <p:nvSpPr>
          <p:cNvPr id="1055" name="AutoShape 17"/>
          <p:cNvSpPr/>
          <p:nvPr/>
        </p:nvSpPr>
        <p:spPr>
          <a:xfrm>
            <a:off x="500040" y="2071800"/>
            <a:ext cx="4000680" cy="609480"/>
          </a:xfrm>
          <a:prstGeom prst="wedgeRoundRectCallout">
            <a:avLst>
              <a:gd name="adj1" fmla="val -36796"/>
              <a:gd name="adj2" fmla="val 7994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3"/>
          <p:cNvSpPr/>
          <p:nvPr/>
        </p:nvSpPr>
        <p:spPr>
          <a:xfrm>
            <a:off x="1987920" y="20718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Calibri"/>
                <a:ea typeface="宋体"/>
              </a:rPr>
              <a:t>射线只有一个端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3"/>
          <p:cNvSpPr/>
          <p:nvPr/>
        </p:nvSpPr>
        <p:spPr>
          <a:xfrm>
            <a:off x="2484360" y="4148280"/>
            <a:ext cx="73080" cy="72720"/>
          </a:xfrm>
          <a:prstGeom prst="ellips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4"/>
          <p:cNvSpPr/>
          <p:nvPr/>
        </p:nvSpPr>
        <p:spPr>
          <a:xfrm>
            <a:off x="5508720" y="4148280"/>
            <a:ext cx="73080" cy="72720"/>
          </a:xfrm>
          <a:prstGeom prst="ellips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2484360" y="4220640"/>
            <a:ext cx="3097440" cy="360"/>
            <a:chOff x="2484360" y="4220640"/>
            <a:chExt cx="3097440" cy="360"/>
          </a:xfrm>
        </p:grpSpPr>
        <p:sp>
          <p:nvSpPr>
            <p:cNvPr id="1060" name="Line 5"/>
            <p:cNvSpPr/>
            <p:nvPr/>
          </p:nvSpPr>
          <p:spPr>
            <a:xfrm>
              <a:off x="2484360" y="4221000"/>
              <a:ext cx="30974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 txBox="1"/>
            <p:nvPr/>
          </p:nvSpPr>
          <p:spPr>
            <a:xfrm rot="10800000">
              <a:off x="2484360" y="4220640"/>
              <a:ext cx="309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Text Box 6"/>
          <p:cNvSpPr/>
          <p:nvPr/>
        </p:nvSpPr>
        <p:spPr>
          <a:xfrm>
            <a:off x="2197080" y="3645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7"/>
          <p:cNvSpPr/>
          <p:nvPr/>
        </p:nvSpPr>
        <p:spPr>
          <a:xfrm>
            <a:off x="5581800" y="3645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5508720" y="4221000"/>
            <a:ext cx="1871640" cy="360"/>
            <a:chOff x="5508720" y="4221000"/>
            <a:chExt cx="1871640" cy="360"/>
          </a:xfrm>
        </p:grpSpPr>
        <p:sp>
          <p:nvSpPr>
            <p:cNvPr id="1065" name="Line 8"/>
            <p:cNvSpPr/>
            <p:nvPr/>
          </p:nvSpPr>
          <p:spPr>
            <a:xfrm>
              <a:off x="5508720" y="4221000"/>
              <a:ext cx="18716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 txBox="1"/>
            <p:nvPr/>
          </p:nvSpPr>
          <p:spPr>
            <a:xfrm>
              <a:off x="5508720" y="4221000"/>
              <a:ext cx="18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Rectangle 12"/>
          <p:cNvSpPr/>
          <p:nvPr/>
        </p:nvSpPr>
        <p:spPr>
          <a:xfrm>
            <a:off x="3592440" y="3697200"/>
            <a:ext cx="12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射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539640" y="2421000"/>
            <a:ext cx="360" cy="360"/>
            <a:chOff x="539640" y="2421000"/>
            <a:chExt cx="360" cy="360"/>
          </a:xfrm>
        </p:grpSpPr>
        <p:sp>
          <p:nvSpPr>
            <p:cNvPr id="1069" name="Line 13"/>
            <p:cNvSpPr/>
            <p:nvPr/>
          </p:nvSpPr>
          <p:spPr>
            <a:xfrm>
              <a:off x="539640" y="24210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 txBox="1"/>
            <p:nvPr/>
          </p:nvSpPr>
          <p:spPr>
            <a:xfrm>
              <a:off x="539640" y="2421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2" descr="D:\我的文档-桌面-收藏夹\桌面\汽车灯.jpg"/>
          <p:cNvPicPr/>
          <p:nvPr/>
        </p:nvPicPr>
        <p:blipFill>
          <a:blip r:embed="rId1"/>
          <a:stretch/>
        </p:blipFill>
        <p:spPr>
          <a:xfrm>
            <a:off x="714240" y="3213000"/>
            <a:ext cx="3191040" cy="24480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D:\我的文档-桌面-收藏夹\桌面\灯光.jpg"/>
          <p:cNvPicPr/>
          <p:nvPr/>
        </p:nvPicPr>
        <p:blipFill>
          <a:blip r:embed="rId2"/>
          <a:stretch/>
        </p:blipFill>
        <p:spPr>
          <a:xfrm>
            <a:off x="5353200" y="3354480"/>
            <a:ext cx="2933640" cy="2357280"/>
          </a:xfrm>
          <a:prstGeom prst="rect">
            <a:avLst/>
          </a:prstGeom>
          <a:ln w="0">
            <a:noFill/>
          </a:ln>
        </p:spPr>
      </p:pic>
      <p:sp>
        <p:nvSpPr>
          <p:cNvPr id="1073" name="TextBox 6"/>
          <p:cNvSpPr/>
          <p:nvPr/>
        </p:nvSpPr>
        <p:spPr>
          <a:xfrm>
            <a:off x="1979640" y="5643720"/>
            <a:ext cx="6715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这些灯光都可以看作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宋体"/>
              </a:rPr>
              <a:t>射线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4" name="Picture 7" descr="027"/>
          <p:cNvPicPr/>
          <p:nvPr/>
        </p:nvPicPr>
        <p:blipFill>
          <a:blip r:embed="rId3"/>
          <a:stretch/>
        </p:blipFill>
        <p:spPr>
          <a:xfrm>
            <a:off x="3432240" y="430200"/>
            <a:ext cx="342900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Picture 12" descr="8"/>
          <p:cNvPicPr/>
          <p:nvPr/>
        </p:nvPicPr>
        <p:blipFill>
          <a:blip r:embed="rId1"/>
          <a:stretch/>
        </p:blipFill>
        <p:spPr>
          <a:xfrm>
            <a:off x="1619280" y="2060640"/>
            <a:ext cx="4464000" cy="2690640"/>
          </a:xfrm>
          <a:prstGeom prst="rect">
            <a:avLst/>
          </a:prstGeom>
          <a:ln w="0">
            <a:noFill/>
          </a:ln>
        </p:spPr>
      </p:pic>
      <p:sp>
        <p:nvSpPr>
          <p:cNvPr id="1076" name="Text Box 4"/>
          <p:cNvSpPr/>
          <p:nvPr/>
        </p:nvSpPr>
        <p:spPr>
          <a:xfrm>
            <a:off x="2422800" y="1441440"/>
            <a:ext cx="34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方正楷体简体"/>
              </a:rPr>
              <a:t>直线和射线都可以无限延伸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5"/>
          <p:cNvSpPr/>
          <p:nvPr/>
        </p:nvSpPr>
        <p:spPr>
          <a:xfrm>
            <a:off x="2643840" y="708120"/>
            <a:ext cx="33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直线、射线与线段有什么区别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6"/>
          <p:cNvSpPr/>
          <p:nvPr/>
        </p:nvSpPr>
        <p:spPr>
          <a:xfrm>
            <a:off x="7212960" y="1873080"/>
            <a:ext cx="34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方正楷体简体"/>
              </a:rPr>
              <a:t>线段可以量出长度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7"/>
          <p:cNvSpPr/>
          <p:nvPr/>
        </p:nvSpPr>
        <p:spPr>
          <a:xfrm>
            <a:off x="4738680" y="4883040"/>
            <a:ext cx="216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方正楷体简体"/>
              </a:rPr>
              <a:t>线段有两个端点，直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方正楷体简体"/>
              </a:rPr>
              <a:t>没有端点，射线只有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方正楷体简体"/>
              </a:rPr>
              <a:t>个端点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AutoShape 10"/>
          <p:cNvSpPr/>
          <p:nvPr/>
        </p:nvSpPr>
        <p:spPr>
          <a:xfrm>
            <a:off x="5724360" y="1773360"/>
            <a:ext cx="3098880" cy="718920"/>
          </a:xfrm>
          <a:prstGeom prst="wedgeRoundRectCallout">
            <a:avLst>
              <a:gd name="adj1" fmla="val -47342"/>
              <a:gd name="adj2" fmla="val 8222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AutoShape 11"/>
          <p:cNvSpPr/>
          <p:nvPr/>
        </p:nvSpPr>
        <p:spPr>
          <a:xfrm>
            <a:off x="324000" y="1413000"/>
            <a:ext cx="4392360" cy="576000"/>
          </a:xfrm>
          <a:prstGeom prst="wedgeRoundRectCallout">
            <a:avLst>
              <a:gd name="adj1" fmla="val 777"/>
              <a:gd name="adj2" fmla="val 10619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AutoShape 13"/>
          <p:cNvSpPr/>
          <p:nvPr/>
        </p:nvSpPr>
        <p:spPr>
          <a:xfrm>
            <a:off x="3924360" y="4791240"/>
            <a:ext cx="3744720" cy="1368360"/>
          </a:xfrm>
          <a:prstGeom prst="wedgeRoundRectCallout">
            <a:avLst>
              <a:gd name="adj1" fmla="val -50078"/>
              <a:gd name="adj2" fmla="val -703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TextBox 3"/>
          <p:cNvSpPr/>
          <p:nvPr/>
        </p:nvSpPr>
        <p:spPr>
          <a:xfrm>
            <a:off x="795240" y="787320"/>
            <a:ext cx="6858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我们认识过角，下面的图形都是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3"/>
          <p:cNvSpPr/>
          <p:nvPr/>
        </p:nvSpPr>
        <p:spPr>
          <a:xfrm>
            <a:off x="441360" y="4143240"/>
            <a:ext cx="9001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从一点引出两条射线所组成的图形叫做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角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。这个点叫做角的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顶点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，这两条射线叫做角的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边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3"/>
          <p:cNvSpPr/>
          <p:nvPr/>
        </p:nvSpPr>
        <p:spPr>
          <a:xfrm>
            <a:off x="439560" y="5267160"/>
            <a:ext cx="86439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角通常用符号“∠”来表示，上图的角可以记作“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∠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Group 16"/>
          <p:cNvGrpSpPr/>
          <p:nvPr/>
        </p:nvGrpSpPr>
        <p:grpSpPr>
          <a:xfrm>
            <a:off x="1909800" y="2774880"/>
            <a:ext cx="1584360" cy="1368360"/>
            <a:chOff x="1909800" y="2774880"/>
            <a:chExt cx="1584360" cy="1368360"/>
          </a:xfrm>
        </p:grpSpPr>
        <p:sp>
          <p:nvSpPr>
            <p:cNvPr id="1087" name="Rectangle 2"/>
            <p:cNvSpPr/>
            <p:nvPr/>
          </p:nvSpPr>
          <p:spPr>
            <a:xfrm>
              <a:off x="1909800" y="3422520"/>
              <a:ext cx="1114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顶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2"/>
            <p:cNvSpPr/>
            <p:nvPr/>
          </p:nvSpPr>
          <p:spPr>
            <a:xfrm>
              <a:off x="2700360" y="2774880"/>
              <a:ext cx="433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2"/>
            <p:cNvSpPr/>
            <p:nvPr/>
          </p:nvSpPr>
          <p:spPr>
            <a:xfrm>
              <a:off x="3060720" y="3566880"/>
              <a:ext cx="433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2558520" y="2642760"/>
            <a:ext cx="1080000" cy="1081080"/>
            <a:chOff x="2558520" y="2642760"/>
            <a:chExt cx="1080000" cy="1081080"/>
          </a:xfrm>
        </p:grpSpPr>
        <p:sp>
          <p:nvSpPr>
            <p:cNvPr id="1091" name="Line 14"/>
            <p:cNvSpPr/>
            <p:nvPr/>
          </p:nvSpPr>
          <p:spPr>
            <a:xfrm flipV="1">
              <a:off x="2558880" y="2642760"/>
              <a:ext cx="1079640" cy="108108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 txBox="1"/>
            <p:nvPr/>
          </p:nvSpPr>
          <p:spPr>
            <a:xfrm rot="10800000">
              <a:off x="2558520" y="2642760"/>
              <a:ext cx="1079640" cy="10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2558880" y="3724200"/>
            <a:ext cx="1584360" cy="360"/>
            <a:chOff x="2558880" y="3724200"/>
            <a:chExt cx="1584360" cy="360"/>
          </a:xfrm>
        </p:grpSpPr>
        <p:sp>
          <p:nvSpPr>
            <p:cNvPr id="1094" name="Line 16"/>
            <p:cNvSpPr/>
            <p:nvPr/>
          </p:nvSpPr>
          <p:spPr>
            <a:xfrm>
              <a:off x="2558880" y="3724200"/>
              <a:ext cx="158436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 txBox="1"/>
            <p:nvPr/>
          </p:nvSpPr>
          <p:spPr>
            <a:xfrm>
              <a:off x="2558880" y="3724200"/>
              <a:ext cx="15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6" name="Freeform 4"/>
          <p:cNvSpPr/>
          <p:nvPr/>
        </p:nvSpPr>
        <p:spPr>
          <a:xfrm>
            <a:off x="4192560" y="1446120"/>
            <a:ext cx="1676520" cy="1219320"/>
          </a:xfrm>
          <a:custGeom>
            <a:avLst/>
            <a:gdLst/>
            <a:ahLst/>
            <a:rect l="l" t="t" r="r" b="b"/>
            <a:pathLst>
              <a:path w="1200" h="960">
                <a:moveTo>
                  <a:pt x="576" y="0"/>
                </a:moveTo>
                <a:lnTo>
                  <a:pt x="0" y="960"/>
                </a:lnTo>
                <a:lnTo>
                  <a:pt x="1200" y="960"/>
                </a:ln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reeform 5"/>
          <p:cNvSpPr/>
          <p:nvPr/>
        </p:nvSpPr>
        <p:spPr>
          <a:xfrm flipH="1">
            <a:off x="6622920" y="1430280"/>
            <a:ext cx="1306800" cy="1235160"/>
          </a:xfrm>
          <a:custGeom>
            <a:avLst/>
            <a:gdLst/>
            <a:ahLst/>
            <a:rect l="l" t="t" r="r" b="b"/>
            <a:pathLst>
              <a:path w="1200" h="960">
                <a:moveTo>
                  <a:pt x="576" y="0"/>
                </a:moveTo>
                <a:lnTo>
                  <a:pt x="0" y="960"/>
                </a:lnTo>
                <a:lnTo>
                  <a:pt x="1200" y="960"/>
                </a:ln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Freeform 8"/>
          <p:cNvSpPr/>
          <p:nvPr/>
        </p:nvSpPr>
        <p:spPr>
          <a:xfrm>
            <a:off x="1155600" y="1819440"/>
            <a:ext cx="2362320" cy="685800"/>
          </a:xfrm>
          <a:custGeom>
            <a:avLst/>
            <a:gdLst/>
            <a:ahLst/>
            <a:rect l="l" t="t" r="r" b="b"/>
            <a:pathLst>
              <a:path w="1488" h="432">
                <a:moveTo>
                  <a:pt x="1296" y="0"/>
                </a:moveTo>
                <a:lnTo>
                  <a:pt x="0" y="432"/>
                </a:lnTo>
                <a:lnTo>
                  <a:pt x="1488" y="432"/>
                </a:ln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Freeform 9"/>
          <p:cNvSpPr/>
          <p:nvPr/>
        </p:nvSpPr>
        <p:spPr>
          <a:xfrm>
            <a:off x="2786040" y="3500280"/>
            <a:ext cx="214200" cy="214560"/>
          </a:xfrm>
          <a:custGeom>
            <a:avLst/>
            <a:gdLst/>
            <a:ahLst/>
            <a:rect l="l" t="t" r="r" b="b"/>
            <a:pathLst>
              <a:path w="42" h="78">
                <a:moveTo>
                  <a:pt x="0" y="0"/>
                </a:moveTo>
                <a:cubicBezTo>
                  <a:pt x="42" y="14"/>
                  <a:pt x="42" y="41"/>
                  <a:pt x="42" y="78"/>
                </a:cubicBezTo>
              </a:path>
            </a:pathLst>
          </a:custGeom>
          <a:solidFill>
            <a:srgbClr val="ffffff"/>
          </a:solidFill>
          <a:ln w="255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Box 3"/>
          <p:cNvSpPr/>
          <p:nvPr/>
        </p:nvSpPr>
        <p:spPr>
          <a:xfrm>
            <a:off x="2928960" y="3357720"/>
            <a:ext cx="276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"/>
                            </p:stCondLst>
                            <p:childTnLst>
                              <p:par>
                                <p:cTn id="1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04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6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2" name="Rectangle 64"/>
          <p:cNvSpPr/>
          <p:nvPr/>
        </p:nvSpPr>
        <p:spPr>
          <a:xfrm>
            <a:off x="598320" y="179280"/>
            <a:ext cx="2854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Box 3"/>
          <p:cNvSpPr/>
          <p:nvPr/>
        </p:nvSpPr>
        <p:spPr>
          <a:xfrm>
            <a:off x="652320" y="4286160"/>
            <a:ext cx="86439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直线有：①  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射线有：③  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线段有：②  ④  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Box 3"/>
          <p:cNvSpPr/>
          <p:nvPr/>
        </p:nvSpPr>
        <p:spPr>
          <a:xfrm>
            <a:off x="500040" y="1500120"/>
            <a:ext cx="86439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下面的图形，哪些是直线？哪些是射线？哪些是线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Picture 10" descr="50"/>
          <p:cNvPicPr/>
          <p:nvPr/>
        </p:nvPicPr>
        <p:blipFill>
          <a:blip r:embed="rId8"/>
          <a:stretch/>
        </p:blipFill>
        <p:spPr>
          <a:xfrm>
            <a:off x="1000080" y="2643120"/>
            <a:ext cx="7493040" cy="1071720"/>
          </a:xfrm>
          <a:prstGeom prst="rect">
            <a:avLst/>
          </a:prstGeom>
          <a:ln w="0">
            <a:noFill/>
          </a:ln>
        </p:spPr>
      </p:pic>
      <p:sp>
        <p:nvSpPr>
          <p:cNvPr id="1116" name="TextBox 3"/>
          <p:cNvSpPr/>
          <p:nvPr/>
        </p:nvSpPr>
        <p:spPr>
          <a:xfrm>
            <a:off x="1000080" y="3500280"/>
            <a:ext cx="5619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3"/>
          <p:cNvSpPr/>
          <p:nvPr/>
        </p:nvSpPr>
        <p:spPr>
          <a:xfrm>
            <a:off x="2143080" y="3571920"/>
            <a:ext cx="561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Box 3"/>
          <p:cNvSpPr/>
          <p:nvPr/>
        </p:nvSpPr>
        <p:spPr>
          <a:xfrm>
            <a:off x="3367080" y="3571920"/>
            <a:ext cx="561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Box 3"/>
          <p:cNvSpPr/>
          <p:nvPr/>
        </p:nvSpPr>
        <p:spPr>
          <a:xfrm>
            <a:off x="4510080" y="3571920"/>
            <a:ext cx="561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3"/>
          <p:cNvSpPr/>
          <p:nvPr/>
        </p:nvSpPr>
        <p:spPr>
          <a:xfrm>
            <a:off x="5786280" y="3571920"/>
            <a:ext cx="561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3"/>
          <p:cNvSpPr/>
          <p:nvPr/>
        </p:nvSpPr>
        <p:spPr>
          <a:xfrm>
            <a:off x="6939000" y="3571920"/>
            <a:ext cx="561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Box 3"/>
          <p:cNvSpPr/>
          <p:nvPr/>
        </p:nvSpPr>
        <p:spPr>
          <a:xfrm>
            <a:off x="8143920" y="3571920"/>
            <a:ext cx="561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TextBox 3"/>
          <p:cNvSpPr/>
          <p:nvPr/>
        </p:nvSpPr>
        <p:spPr>
          <a:xfrm>
            <a:off x="642960" y="1214280"/>
            <a:ext cx="86439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数一数，下图中各有几个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3"/>
          <p:cNvSpPr/>
          <p:nvPr/>
        </p:nvSpPr>
        <p:spPr>
          <a:xfrm>
            <a:off x="1643040" y="401004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个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Group 7"/>
          <p:cNvGrpSpPr/>
          <p:nvPr/>
        </p:nvGrpSpPr>
        <p:grpSpPr>
          <a:xfrm>
            <a:off x="1214280" y="2223720"/>
            <a:ext cx="2428560" cy="1478520"/>
            <a:chOff x="1214280" y="2223720"/>
            <a:chExt cx="2428560" cy="1478520"/>
          </a:xfrm>
        </p:grpSpPr>
        <p:grpSp>
          <p:nvGrpSpPr>
            <p:cNvPr id="1126" name=""/>
            <p:cNvGrpSpPr/>
            <p:nvPr/>
          </p:nvGrpSpPr>
          <p:grpSpPr>
            <a:xfrm>
              <a:off x="2165040" y="3701880"/>
              <a:ext cx="1477800" cy="360"/>
              <a:chOff x="2165040" y="3701880"/>
              <a:chExt cx="1477800" cy="360"/>
            </a:xfrm>
          </p:grpSpPr>
          <p:sp>
            <p:nvSpPr>
              <p:cNvPr id="1127" name="Line 8"/>
              <p:cNvSpPr/>
              <p:nvPr/>
            </p:nvSpPr>
            <p:spPr>
              <a:xfrm flipH="1">
                <a:off x="2165040" y="3701880"/>
                <a:ext cx="1477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 txBox="1"/>
              <p:nvPr/>
            </p:nvSpPr>
            <p:spPr>
              <a:xfrm>
                <a:off x="2165040" y="3701880"/>
                <a:ext cx="1477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9" name=""/>
            <p:cNvGrpSpPr/>
            <p:nvPr/>
          </p:nvGrpSpPr>
          <p:grpSpPr>
            <a:xfrm>
              <a:off x="1214280" y="2504880"/>
              <a:ext cx="951120" cy="1196640"/>
              <a:chOff x="1214280" y="2504880"/>
              <a:chExt cx="951120" cy="1196640"/>
            </a:xfrm>
          </p:grpSpPr>
          <p:sp>
            <p:nvSpPr>
              <p:cNvPr id="1130" name="Line 9"/>
              <p:cNvSpPr/>
              <p:nvPr/>
            </p:nvSpPr>
            <p:spPr>
              <a:xfrm flipH="1" flipV="1">
                <a:off x="1214280" y="2504880"/>
                <a:ext cx="950760" cy="1196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 txBox="1"/>
              <p:nvPr/>
            </p:nvSpPr>
            <p:spPr>
              <a:xfrm rot="10800000">
                <a:off x="1214640" y="2504880"/>
                <a:ext cx="950760" cy="1196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"/>
            <p:cNvGrpSpPr/>
            <p:nvPr/>
          </p:nvGrpSpPr>
          <p:grpSpPr>
            <a:xfrm>
              <a:off x="2165400" y="2223720"/>
              <a:ext cx="897120" cy="1477800"/>
              <a:chOff x="2165400" y="2223720"/>
              <a:chExt cx="897120" cy="1477800"/>
            </a:xfrm>
          </p:grpSpPr>
          <p:sp>
            <p:nvSpPr>
              <p:cNvPr id="1133" name="Line 10"/>
              <p:cNvSpPr/>
              <p:nvPr/>
            </p:nvSpPr>
            <p:spPr>
              <a:xfrm flipV="1">
                <a:off x="2165400" y="2223720"/>
                <a:ext cx="897120" cy="1477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 txBox="1"/>
              <p:nvPr/>
            </p:nvSpPr>
            <p:spPr>
              <a:xfrm rot="10800000">
                <a:off x="2165400" y="2223720"/>
                <a:ext cx="897120" cy="147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5" name="Group 11"/>
          <p:cNvGrpSpPr/>
          <p:nvPr/>
        </p:nvGrpSpPr>
        <p:grpSpPr>
          <a:xfrm>
            <a:off x="4711680" y="2367000"/>
            <a:ext cx="2003040" cy="1350720"/>
            <a:chOff x="4711680" y="2367000"/>
            <a:chExt cx="2003040" cy="1350720"/>
          </a:xfrm>
        </p:grpSpPr>
        <p:sp>
          <p:nvSpPr>
            <p:cNvPr id="1136" name="AutoShape 12"/>
            <p:cNvSpPr/>
            <p:nvPr/>
          </p:nvSpPr>
          <p:spPr>
            <a:xfrm flipH="1">
              <a:off x="4713120" y="2367000"/>
              <a:ext cx="2001600" cy="135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7" name=""/>
            <p:cNvGrpSpPr/>
            <p:nvPr/>
          </p:nvGrpSpPr>
          <p:grpSpPr>
            <a:xfrm>
              <a:off x="4711680" y="2367000"/>
              <a:ext cx="1502640" cy="1350720"/>
              <a:chOff x="4711680" y="2367000"/>
              <a:chExt cx="1502640" cy="1350720"/>
            </a:xfrm>
          </p:grpSpPr>
          <p:sp>
            <p:nvSpPr>
              <p:cNvPr id="1138" name="Line 13"/>
              <p:cNvSpPr/>
              <p:nvPr/>
            </p:nvSpPr>
            <p:spPr>
              <a:xfrm flipH="1" flipV="1">
                <a:off x="4711680" y="2367000"/>
                <a:ext cx="1502280" cy="135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 txBox="1"/>
              <p:nvPr/>
            </p:nvSpPr>
            <p:spPr>
              <a:xfrm rot="10800000">
                <a:off x="4712040" y="2367000"/>
                <a:ext cx="1502280" cy="135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0" name="TextBox 3"/>
          <p:cNvSpPr/>
          <p:nvPr/>
        </p:nvSpPr>
        <p:spPr>
          <a:xfrm>
            <a:off x="5000760" y="4152960"/>
            <a:ext cx="13474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个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01:06:00Z</dcterms:created>
  <dc:creator/>
  <dc:description/>
  <dc:language>en-US</dc:language>
  <cp:lastModifiedBy>万润仪器贸易公司</cp:lastModifiedBy>
  <dcterms:modified xsi:type="dcterms:W3CDTF">2020-08-21T08:54:34Z</dcterms:modified>
  <cp:revision>5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